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5081F-A0F0-4C83-888A-77FDF50EC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30AEE-1D31-4475-8D33-74C7E59DE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5E7C7-8FB6-44AD-AA6D-94E449593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C8664-B839-4BAF-A850-EBED49D15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EC95A-5AE7-44CD-AB80-ABF657C67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24B8E-5ED2-4790-96D5-5502F911F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B033D-5FF0-4457-84CF-8EBE23A21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6D632-1C37-4D6A-9E56-C95F3A27C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A97A9-2B60-47FD-A942-2C2D30786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7847-DBD9-433F-B4AC-9B6CC98D9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A61C-7876-4832-A67C-BE1964E24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A22A1-EF68-4E88-8BDA-80AF0CC5A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19F0-4822-4D2A-AE32-0EFF956E3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niversityofblogs.com/" TargetMode="External"/><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reader/" TargetMode="External"/><Relationship Id="rId3" Type="http://schemas.openxmlformats.org/officeDocument/2006/relationships/hyperlink" Target="http://www.bloglines.com/" TargetMode="External"/><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ikaelaxwo.edublogs.org/" TargetMode="External"/><Relationship Id="rId3" Type="http://schemas.openxmlformats.org/officeDocument/2006/relationships/hyperlink" Target="http://louisxwo.edublogs.org/"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theedublogger.edublogs.org/check-out-these-class-blogs/" TargetMode="External"/><Relationship Id="rId3" Type="http://schemas.openxmlformats.org/officeDocument/2006/relationships/hyperlink" Target="http://supportblogging.com/Links+to+School+Bloggers" TargetMode="External"/><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greg@gmail.com" TargetMode="External"/><Relationship Id="rId3" Type="http://schemas.openxmlformats.org/officeDocument/2006/relationships/hyperlink" Target="mailto:greg+studentname@gmail.com" TargetMode="External"/><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dublogs.org/" TargetMode="External"/><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help.edublogs.org/" TargetMode="External"/><Relationship Id="rId3" Type="http://schemas.openxmlformats.org/officeDocument/2006/relationships/hyperlink" Target="http://help.edublogs.org/" TargetMode="External"/><Relationship Id="rId4" Type="http://schemas.openxmlformats.org/officeDocument/2006/relationships/hyperlink" Target="http://theedublogger.edublogs.org/" TargetMode="External"/><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6880" y="1501920"/>
            <a:ext cx="8558280" cy="2185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6a5af"/>
                </a:solidFill>
                <a:latin typeface="Comic Sans MS"/>
              </a:rPr>
              <a:t>Blogging in the Classroom with Edublog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544760" y="3687480"/>
            <a:ext cx="7364160" cy="2881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set up, manage, and coordinate a classroom full of blogs.</a:t>
            </a:r>
            <a:endParaRPr b="0" lang="en-US" sz="3200" spc="-1" strike="noStrike">
              <a:solidFill>
                <a:srgbClr val="000000"/>
              </a:solidFill>
              <a:latin typeface="Times New Roman"/>
            </a:endParaRPr>
          </a:p>
        </p:txBody>
      </p:sp>
      <p:sp>
        <p:nvSpPr>
          <p:cNvPr id="43" name=""/>
          <p:cNvSpPr/>
          <p:nvPr/>
        </p:nvSpPr>
        <p:spPr>
          <a:xfrm>
            <a:off x="3592440" y="5997600"/>
            <a:ext cx="55627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resented by Greg Marge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Edublogs Supporter</a:t>
            </a:r>
            <a:endParaRPr b="0" lang="en-US" sz="4300" spc="-1" strike="noStrike">
              <a:solidFill>
                <a:srgbClr val="000000"/>
              </a:solidFill>
              <a:latin typeface="Times New Roman"/>
            </a:endParaRPr>
          </a:p>
        </p:txBody>
      </p:sp>
      <p:sp>
        <p:nvSpPr>
          <p:cNvPr id="61"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a:t>
            </a:r>
            <a:r>
              <a:rPr b="0" lang="en-US" sz="2400" spc="-1" strike="noStrike">
                <a:solidFill>
                  <a:srgbClr val="ffffff"/>
                </a:solidFill>
                <a:latin typeface="Comic Sans MS"/>
              </a:rPr>
              <a:t>dublogs is free, but it is highly advisable to upgrade to supporter level if you are using your blog in the classroom.</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upporter level cost is $30 per yea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upporters get a much higher amount of upload space (5 GB instead of 20mb)</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upporters can remove contextual ads from the body of their blog, and from student blog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upporters have a host of widgets and features availab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Edublogs Campus</a:t>
            </a:r>
            <a:endParaRPr b="0" lang="en-US" sz="4300" spc="-1" strike="noStrike">
              <a:solidFill>
                <a:srgbClr val="000000"/>
              </a:solidFill>
              <a:latin typeface="Times New Roman"/>
            </a:endParaRPr>
          </a:p>
        </p:txBody>
      </p:sp>
      <p:sp>
        <p:nvSpPr>
          <p:cNvPr id="63"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dublogs Campus is a premium service that allows you to set up and administer multiple blogs easily. If your school or district will be using blogging extensively, it is well worth checking into, but it is not cost effective to consider for a single classro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dublogs has a site where you can experiment with the tools available on the Edublogs Campus dashboard to try it ou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2"/>
              </a:rPr>
              <a:t>Edublogs Campus Dem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0440" y="304560"/>
            <a:ext cx="9779040" cy="1517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Monitoring Your Blogs</a:t>
            </a:r>
            <a:endParaRPr b="0" lang="en-US" sz="4300" spc="-1" strike="noStrike">
              <a:solidFill>
                <a:srgbClr val="000000"/>
              </a:solidFill>
              <a:latin typeface="Times New Roman"/>
            </a:endParaRPr>
          </a:p>
        </p:txBody>
      </p:sp>
      <p:sp>
        <p:nvSpPr>
          <p:cNvPr id="65" name="PlaceHolder 2"/>
          <p:cNvSpPr>
            <a:spLocks noGrp="1"/>
          </p:cNvSpPr>
          <p:nvPr>
            <p:ph type="subTitle"/>
          </p:nvPr>
        </p:nvSpPr>
        <p:spPr>
          <a:xfrm>
            <a:off x="193680" y="1821960"/>
            <a:ext cx="9772560" cy="6891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What is RS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Really Simple Syndication (RSS) is a must if you are going to be managing lots of student blogs. With RSS, you can subscribe to all of your students‘ blogs and blog comments, and monitor all of them from a single location -even from your homepag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2"/>
              </a:rPr>
              <a:t>Google Read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3"/>
              </a:rPr>
              <a:t>Bloglin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Netvib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Pageflak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0440" y="304560"/>
            <a:ext cx="9779040" cy="1517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Contact Me</a:t>
            </a:r>
            <a:endParaRPr b="0" lang="en-US" sz="4300" spc="-1" strike="noStrike">
              <a:solidFill>
                <a:srgbClr val="000000"/>
              </a:solidFill>
              <a:latin typeface="Times New Roman"/>
            </a:endParaRPr>
          </a:p>
        </p:txBody>
      </p:sp>
      <p:sp>
        <p:nvSpPr>
          <p:cNvPr id="67" name="PlaceHolder 2"/>
          <p:cNvSpPr>
            <a:spLocks noGrp="1"/>
          </p:cNvSpPr>
          <p:nvPr>
            <p:ph type="subTitle"/>
          </p:nvPr>
        </p:nvSpPr>
        <p:spPr>
          <a:xfrm>
            <a:off x="193680" y="1821960"/>
            <a:ext cx="9772560" cy="6891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Feel free to contact me at any time if you have further questions or or even better, to share what you are doing with classroom blogg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Greg Marge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651) 216-6621</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greg.marget@emid6067.ne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r just contact me through the blo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Crosswinds Orchestr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04560"/>
            <a:ext cx="9779040" cy="1006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How I use blogs</a:t>
            </a:r>
            <a:endParaRPr b="0" lang="en-US" sz="4300" spc="-1" strike="noStrike">
              <a:solidFill>
                <a:srgbClr val="000000"/>
              </a:solidFill>
              <a:latin typeface="Times New Roman"/>
            </a:endParaRPr>
          </a:p>
        </p:txBody>
      </p:sp>
      <p:sp>
        <p:nvSpPr>
          <p:cNvPr id="45" name="PlaceHolder 2"/>
          <p:cNvSpPr>
            <a:spLocks noGrp="1"/>
          </p:cNvSpPr>
          <p:nvPr>
            <p:ph type="subTitle"/>
          </p:nvPr>
        </p:nvSpPr>
        <p:spPr>
          <a:xfrm>
            <a:off x="95400" y="1310760"/>
            <a:ext cx="9882000" cy="63090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I use a classroom blog as a way to share information of all kinds with students and parents. I also am able to receive input from students about anything that I pos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The Crosswinds Orchestra Blog</a:t>
            </a: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tudents use their personal blogs to report their practice, reflections, musical goals, and as a platform to discuss or display their musical interes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2"/>
              </a:rPr>
              <a:t>Mikaela's Blo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3"/>
              </a:rPr>
              <a:t>Louis’ Blo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inks to classroom blogs</a:t>
            </a:r>
            <a:endParaRPr b="0" lang="en-US" sz="4300" spc="-1" strike="noStrike">
              <a:solidFill>
                <a:srgbClr val="000000"/>
              </a:solidFill>
              <a:latin typeface="Times New Roman"/>
            </a:endParaRPr>
          </a:p>
        </p:txBody>
      </p:sp>
      <p:sp>
        <p:nvSpPr>
          <p:cNvPr id="47"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eachers are using blogs for their students in every subject, at every grade level. Links on this page are to pages that have lots of classroom blog links on them, in all disciplines, across all grade level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2"/>
              </a:rPr>
              <a:t>Edubloggers Classroom Blog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3"/>
              </a:rPr>
              <a:t>Support Blogging Wiki - Educational Blog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One Blog or Many?</a:t>
            </a:r>
            <a:endParaRPr b="0" lang="en-US" sz="4300" spc="-1" strike="noStrike">
              <a:solidFill>
                <a:srgbClr val="000000"/>
              </a:solidFill>
              <a:latin typeface="Times New Roman"/>
            </a:endParaRPr>
          </a:p>
        </p:txBody>
      </p:sp>
      <p:sp>
        <p:nvSpPr>
          <p:cNvPr id="49"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first question to answer is how many blogs do you really need? There are two ways to g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1. Make one classroom blog and have students all contribute to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2. Give everyone their own blo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0440" y="304920"/>
            <a:ext cx="9779040" cy="15271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One Blog or Many?</a:t>
            </a:r>
            <a:endParaRPr b="0" lang="en-US" sz="4300" spc="-1" strike="noStrike">
              <a:solidFill>
                <a:srgbClr val="000000"/>
              </a:solidFill>
              <a:latin typeface="Times New Roman"/>
            </a:endParaRPr>
          </a:p>
        </p:txBody>
      </p:sp>
      <p:sp>
        <p:nvSpPr>
          <p:cNvPr id="51" name="PlaceHolder 2"/>
          <p:cNvSpPr>
            <a:spLocks noGrp="1"/>
          </p:cNvSpPr>
          <p:nvPr>
            <p:ph type="subTitle"/>
          </p:nvPr>
        </p:nvSpPr>
        <p:spPr>
          <a:xfrm>
            <a:off x="193320" y="1832040"/>
            <a:ext cx="7792920" cy="5788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ne Blog Advantag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Easy to set up, follow, and maintai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Centralized Cont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Total Contro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User comfort level is generally hig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little or no learning curve for student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One Blog or Many?</a:t>
            </a:r>
            <a:endParaRPr b="0" lang="en-US" sz="4300" spc="-1" strike="noStrike">
              <a:solidFill>
                <a:srgbClr val="000000"/>
              </a:solidFill>
              <a:latin typeface="Times New Roman"/>
            </a:endParaRPr>
          </a:p>
        </p:txBody>
      </p:sp>
      <p:sp>
        <p:nvSpPr>
          <p:cNvPr id="53"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Multiple Blog Advantag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Greater freedom of express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Increased levels of creativ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Students create and control cont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Student's pride in ownership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you are giving these student's their very own websit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More technical knowledge to gai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3680" y="309240"/>
            <a:ext cx="9772560" cy="1531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Setting up Multiple Blogs - </a:t>
            </a:r>
            <a:br>
              <a:rPr sz="4300"/>
            </a:br>
            <a:r>
              <a:rPr b="0" lang="en-US" sz="4300" spc="-1" strike="noStrike">
                <a:solidFill>
                  <a:srgbClr val="ffffff"/>
                </a:solidFill>
                <a:latin typeface="Comic Sans MS"/>
              </a:rPr>
              <a:t>practical considerations</a:t>
            </a:r>
            <a:endParaRPr b="0" lang="en-US" sz="4300" spc="-1" strike="noStrike">
              <a:solidFill>
                <a:srgbClr val="000000"/>
              </a:solidFill>
              <a:latin typeface="Times New Roman"/>
            </a:endParaRPr>
          </a:p>
        </p:txBody>
      </p:sp>
      <p:sp>
        <p:nvSpPr>
          <p:cNvPr id="55"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What does your district support/allo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Privacy concerns - know your district polici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Generating blogs, usernames, password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google classro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Create pseudo e-mail accounts through Googl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can use a G-mail account you set up to generate student accounts. When you add a “+” after your GMail username, you can add any text and all e-mail will come to you, but a server will see this as a “unique” e-mail address. For example if your gmail account is </a:t>
            </a:r>
            <a:r>
              <a:rPr b="0" lang="en-US" sz="1800" spc="-1" strike="noStrike" u="sng">
                <a:solidFill>
                  <a:srgbClr val="ccccff"/>
                </a:solidFill>
                <a:uFillTx/>
                <a:latin typeface="Comic Sans MS"/>
                <a:hlinkClick r:id="rId2"/>
              </a:rPr>
              <a:t>greg@gmail.com</a:t>
            </a:r>
            <a:r>
              <a:rPr b="0" lang="en-US" sz="1800" spc="-1" strike="noStrike">
                <a:solidFill>
                  <a:srgbClr val="ffffff"/>
                </a:solidFill>
                <a:latin typeface="Comic Sans MS"/>
              </a:rPr>
              <a:t>, you can set up a student account at </a:t>
            </a:r>
            <a:r>
              <a:rPr b="0" lang="en-US" sz="1800" spc="-1" strike="noStrike" u="sng">
                <a:solidFill>
                  <a:srgbClr val="ccccff"/>
                </a:solidFill>
                <a:uFillTx/>
                <a:latin typeface="Comic Sans MS"/>
                <a:hlinkClick r:id="rId3"/>
              </a:rPr>
              <a:t>greg+studentname@gmail.com</a:t>
            </a:r>
            <a:r>
              <a:rPr b="0" lang="en-US" sz="1800" spc="-1" strike="noStrike">
                <a:solidFill>
                  <a:srgbClr val="ffffff"/>
                </a:solidFill>
                <a:latin typeface="Comic Sans MS"/>
              </a:rPr>
              <a:t>. You can do this for however many students you need 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440" y="304560"/>
            <a:ext cx="9779040" cy="990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Edublogs</a:t>
            </a:r>
            <a:endParaRPr b="0" lang="en-US" sz="4300" spc="-1" strike="noStrike">
              <a:solidFill>
                <a:srgbClr val="000000"/>
              </a:solidFill>
              <a:latin typeface="Times New Roman"/>
            </a:endParaRPr>
          </a:p>
        </p:txBody>
      </p:sp>
      <p:sp>
        <p:nvSpPr>
          <p:cNvPr id="57"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dublogs is a site dedicated to blogging for educators and their students. The blogs here are not as public as the blogs on some alternate platform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For example, a Google search on "Crossswinds Orchestra" will never bring up my edublogs site, which provides increased security and safety for my studen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dublogs is fre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o get started with Edublogs, get an account: </a:t>
            </a:r>
            <a:r>
              <a:rPr b="0" lang="en-US" sz="2700" spc="-1" strike="noStrike" u="sng">
                <a:solidFill>
                  <a:srgbClr val="ccccff"/>
                </a:solidFill>
                <a:uFillTx/>
                <a:latin typeface="Comic Sans MS"/>
                <a:hlinkClick r:id="rId2"/>
              </a:rPr>
              <a:t>Edublogs</a:t>
            </a:r>
            <a:r>
              <a:rPr b="0" lang="en-US" sz="2700" spc="-1" strike="noStrike">
                <a:solidFill>
                  <a:srgbClr val="ffffff"/>
                </a:solidFill>
                <a:latin typeface="Comic Sans MS"/>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Support and Help for Edublogs</a:t>
            </a:r>
            <a:endParaRPr b="0" lang="en-US" sz="4300" spc="-1" strike="noStrike">
              <a:solidFill>
                <a:srgbClr val="000000"/>
              </a:solidFill>
              <a:latin typeface="Times New Roman"/>
            </a:endParaRPr>
          </a:p>
        </p:txBody>
      </p:sp>
      <p:sp>
        <p:nvSpPr>
          <p:cNvPr id="59"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2"/>
              </a:rPr>
              <a:t>Edublogs Help Secti</a:t>
            </a:r>
            <a:r>
              <a:rPr b="0" lang="en-US" sz="2700" spc="-1" strike="noStrike" u="sng">
                <a:solidFill>
                  <a:srgbClr val="ccccff"/>
                </a:solidFill>
                <a:uFillTx/>
                <a:latin typeface="Comic Sans MS"/>
                <a:hlinkClick r:id="rId3"/>
              </a:rPr>
              <a:t>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Edublogs Getting Start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Edublogs How To Video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4"/>
              </a:rPr>
              <a:t>The Edublogger</a:t>
            </a:r>
            <a:r>
              <a:rPr b="0" lang="en-US" sz="2700" spc="-1" strike="noStrike">
                <a:solidFill>
                  <a:srgbClr val="ffffff"/>
                </a:solidFill>
                <a:latin typeface="Comic Sans MS"/>
              </a:rPr>
              <a:t> - Sue Waters’ excellent blog is a mus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reg Marget</cp:lastModifiedBy>
  <dcterms:modified xsi:type="dcterms:W3CDTF">2009-10-14T03:38:01Z</dcterms:modified>
  <cp:revision>2</cp:revision>
  <dc:subject/>
  <dc:title>PowerPoint Presentation</dc:title>
</cp:coreProperties>
</file>